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A419-3534-4F87-A015-1108158B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is work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6594-16B7-432F-B90C-CA08841CD5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is work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B12-B7F9-41D9-ACDC-3C9D8C46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89E-0137-4072-8489-F5BFBF5F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A4A-81D2-46C6-A83F-682FA78A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559-2C37-4A75-B0CA-0D6A5F86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F73-9246-4628-B257-F66B83A2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85C-6BD0-4D73-AA07-682DA7D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9A5-053D-4408-A3C0-BAC9F77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652-6C22-4E29-899E-69256A35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820-3030-4A0F-9333-DF20A892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24B-F736-4F90-9CC0-4089FB3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E39-66DF-4492-B211-F5BE1C3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43B-28EE-4A49-87A6-814825A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B7D-E96A-4A1E-90C3-7B36E92C8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26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914400"/>
            <a:ext cx="8610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ject Worksheet Che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4343040" cy="685800"/>
            <a:chOff x="0" y="0"/>
            <a:chExt cx="4343040" cy="6858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022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1027440" y="83160"/>
              <a:ext cx="331560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28600" y="214956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t out your project worksheet and I’ll be around to check step 4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5452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roject Worksheet Ste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Due 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6ED04F43-DC28-405F-96ED-7B9620B66A47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Describe two types of electrochemical cells (wet and dry) and identify their parts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914400"/>
            <a:ext cx="8610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ey Question Re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340000"/>
            <a:ext cx="8610480" cy="43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Key Questions 11-15 with a neighbor.  Complete the Key Question Peer Review Worksheet to provide them feedback on their Key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completing the peer review, spend a few minutes discussing your review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le Peer Review to your Key Questions and Turn-in to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Question Pee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58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Questions Written By:  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Questions Reviewed By:  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 Quick G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le the number of the questions that are answered completely: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    12     13     14 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e the questions typed: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          No          S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most of the responses appear to be thorough enough?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 Furthe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information presented clear and easy to understa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any of the questions answered particularly wel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arts of the questions are not addressed or need to be developed in more detai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lear your desks of everything except a pencil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2280" y="228600"/>
            <a:ext cx="87631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lecta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610080"/>
            <a:ext cx="8382240" cy="30492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cience Quiz 3 &amp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Key Questions 11-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10 Point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76520" y="22860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ek 7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1448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ectromagnet Fishing Pole Project Due Wednesday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8:12:54Z</dcterms:created>
  <dc:creator>CCPS</dc:creator>
  <dc:description/>
  <dc:language>en-US</dc:language>
  <cp:lastModifiedBy>CCPS</cp:lastModifiedBy>
  <dcterms:modified xsi:type="dcterms:W3CDTF">2010-03-26T18:13:19Z</dcterms:modified>
  <cp:revision>1</cp:revision>
  <dc:subject/>
  <dc:title>Slide 1</dc:title>
</cp:coreProperties>
</file>